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6D416F-28F8-4296-AEF7-162255DABB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466C1D-2340-4846-B128-93CA052F1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61B86F-2676-4594-AC14-E172078DD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384-8AA8-4CB6-8DC0-B35167F3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D13-855C-46EA-A81A-E87A41EB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788-06C6-4FBB-B80E-536CA1A1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87A-1547-403A-91AB-DE9C4430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25C-01D7-490E-B51C-EBD1A3B0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C14-C6B8-4BD5-AD82-3DDCDBC8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CA9-9FAC-4A44-86A8-78F3AD19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26B-34B1-486D-AE29-92575EB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E07-F0C3-4301-A679-AEFB5768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21E-50D1-4573-BE77-C990602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43D-14E2-4F1A-9DCB-065CD9B0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1A8-5585-4558-B04C-91628F81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4208AC-E3BE-4185-A062-77DF093763BD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4F83C4E-43FC-43AC-B661-C65AFFCF9055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act &amp;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 fact is a statement that can be proved &amp; an opinion tells what you think, feel or believe.  Reread Exploring Parks with Ranger Dockett.  Find &amp; write 4 facts and 4 opinions from the tex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Ph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Consonant Clusters)  Write the words below.  Underline the consonant clusters in each word.  (ex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tr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wim step nest  club  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rave 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ad  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ammar:  A comman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rite 6 command sentences.  A command sentence tells someone what to do.  Make sure that your sentence begins with a capital letter, ends with a period and has the understood subject y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Ex. Please sit down.  Stay off the grass.)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paragraph about nature, plants, or animals.  Begin your paragraph with a main idea that explains what your paragraph is about and add details that tell more about the main idea.  Remember to indent when writing a paragraph.  Draw a picture of your main id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Exploring Parks with Ranger Dockett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11/4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itials: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3:24:36Z</dcterms:created>
  <dc:creator> </dc:creator>
  <dc:description/>
  <dc:language>en-US</dc:language>
  <cp:lastModifiedBy>Mits Mits</cp:lastModifiedBy>
  <cp:lastPrinted>2009-10-26T13:30:29Z</cp:lastPrinted>
  <dcterms:modified xsi:type="dcterms:W3CDTF">2009-10-26T13:30:53Z</dcterms:modified>
  <cp:revision>22</cp:revision>
  <dc:subject/>
  <dc:title>Slide 1</dc:title>
</cp:coreProperties>
</file>